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0524-46CC-4214-8C40-6F3AA1A10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3D66-9FA9-4CD6-91C0-9C6D1C446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DF150C-E3AF-4B76-9EAF-59869584F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22F7AB-3D39-4B39-B86B-4771EA059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2D69F2-44E6-4C5D-B6C0-931BE0DDA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B1D49E-20D9-4725-B14C-0C741EC0B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CD6C87-5ADA-46DD-AF79-B34BC252A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67C7D3-5BD6-4EB8-B0A1-6C016D8FF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BA61D2-0418-40E3-AC27-146920C45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F09337-1B85-40C3-A84A-F55C75240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E5EE09-8B11-41ED-B004-9E0C10811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5D823D-D2DD-4434-8672-AD9ED616F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15BF-A322-4424-AF47-3BDB7DB99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7152CB-99A4-4352-8102-FDC45AD4E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A0B0D5-2AA5-41BF-9279-D7428FF5D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2B0AC0-27C7-45DC-8AB0-97B51FC32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F65993-ED4B-47F6-A68F-A6BD65B55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E9C2F3-898D-44AF-AB1A-EC8AADABE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BD1371-349C-4FFA-8533-38AFA7121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C8CA13-8C77-4E28-8D9C-BEF4091AB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72C04B-1FA3-4567-8277-0B36364AB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5C6792-5F12-40CD-85A7-DE9218625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8091BA-87F0-47A3-8607-7686D79BD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C7EE-EFD8-441F-A87B-72D596DFC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5CC71F-05A2-4330-8201-96A0B1038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861D41-D6A2-4B8B-90E8-B339798F8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34C4C4-6C78-42A0-B8D3-E11BFB435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94F933-56C8-4A86-B68E-51C7993E4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F3E4DF-38E9-4008-B776-A01E2C546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9C8DCF-50B1-40D9-8E47-932C5E939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358253-F3AB-4C9E-BFB9-09650F3E4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081188-5A8D-4BB5-905D-19BFB8F5D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A3A9C4-58FA-441A-BB43-2D1A177A8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AFDEAB-3EF1-4DEA-A0C8-3B5957B58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3C7F5-49CC-403C-9B9E-CE4DF36DF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949B90-C960-446B-B72A-79284A8B0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2918EA-571D-4A06-862A-2AF096B12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7E610D-45F5-4B24-AE5D-D545F7680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F0EA0A-2D1A-41D4-9BA1-AFB51979E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B8B71E-F59E-413D-8969-A9042F48C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23667E-BFA2-40D2-AD62-80988103B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E9CDF3-0C8F-4939-A216-976463B30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2D666B-6E59-4CD2-9182-6A682E6D6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F4E210-1C4B-4360-9DE9-A8EDAC0E7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432D0A-A5A5-41B6-94A1-A5087F813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1AEF7-5DE7-49AE-AF19-5B4520A0A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14B7F6-A612-4FFE-9E6B-64A790DB9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4C3DF6-9551-49AC-B863-8AEC9C85F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E9942A-1E23-4E3D-B8F9-BF1908F70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200BE8-30C0-41D1-A4BE-CFEE08F56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0462E5-A457-44C7-8A24-ED910C097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19B61-2F80-4E66-8995-BF6341543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EC159-339D-4D1B-9402-B89C52162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B6811-F08F-48E0-80D0-E3F430B0C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45678-E6F1-40B3-B83B-A3399E083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0D7CB-32BB-4509-9ED0-0CBB5DFFE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4B4A-968D-4298-A85F-98E467737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FD6D3-E4B7-445F-BDCC-CD8DFCC0C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75FAB-F3ED-4BE4-9796-38CCE1E80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42B14-B54E-4EB7-80CD-2F27603E8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F4F1F-200A-4273-81B6-93FEBEB94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0C63D-2285-4934-A40F-3E2A27F66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E8B30-612E-4ABE-A0B4-094E58E2E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32D39-402D-41EC-AD49-722C81670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7F421-8613-48BD-B948-FDBD8ED0D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14CF8-692B-4F17-B18C-0B6198751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3171C-45BF-4D0D-A41B-95006CB2A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28AC-2C49-492E-9C14-48598B5B9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BBE39-8EE2-432C-9DA4-C79DC08EB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44B35-A459-4B26-9F59-91FD4DC01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CB943-C553-4E30-9928-8EDA2CCA4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0B450-ACDD-4B9E-978A-81F7ECF51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85C50-EF8E-44CE-8357-2AEF038F5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33C5A-CCA9-452F-9AE3-8D4DA1CC8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138DC-40D1-40D6-9683-D7F501209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D6FEF-2DDC-4AED-A0F8-C34916078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70CA6-8AA1-4EC5-81D5-E6D59586E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FBB7A-0D80-4ECF-9C71-C367B0A90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9C4B-8011-424D-AEAD-B785F3FFE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19B2E-FE48-4673-83FC-BD7F65C9A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B046C-3F4B-484B-9201-CD8E25B28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7B36A-188A-46C5-8521-F782A4002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FEE89-6C02-488B-A9D0-20BC0EE09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04BE1-60E2-449E-B710-5CB3DDB17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DF4D3B-0189-4DA4-985D-2772E4036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62165-30EB-4D1F-AB7D-279063667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FBBA0-7CDA-4556-A415-E034DE115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75AB3-89C3-49A0-AA9E-A335B496B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41DA7A-B40D-46BA-A74F-8AA68D243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2A56-83CE-4BC1-9B2E-8BABEE29F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9E4D81-35AA-44C9-ABBF-ECC0BD35D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A96389-81CD-4CA5-8935-44E620D3D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5BB4E1-A882-49AD-9F0B-1F19EA51A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2706E3-0158-40E4-9D64-0E7339716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EA65D3-5347-402E-9A23-46A7F4E94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763B6A-0885-484B-89A4-52E5D199D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DFC94B-5F12-4C07-AD0F-A40D261B5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99883B-E64D-4042-902B-3FCF93B45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0C4C7F-12C8-4A1D-9B47-63276F99E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F7E386-C31C-4BF7-AC66-F3BFD95A5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D04F-8A2E-4A82-A68C-C185BC494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A91931-8E56-4F36-89F6-AB295E68A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1EBD99-E597-4E8C-85AE-BC965CEAB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F2068D-9125-4EFA-94CF-396A23717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F5F5FF-96AE-4003-BA58-D0E53E19F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D60B10-B26C-4935-B8E6-49B91A19C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705C82-A9CE-4384-979E-C0B71F911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6667FF-A74D-4C3A-820F-227382829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AD65F5-187A-46D6-B46D-1AE5CA262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DC8BDB-FFD1-452E-BC50-03FF2DC56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B50BFC-3646-4417-9480-41E6336C6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E4B8-7657-460A-8A64-3E0D16446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F80655-09FC-4AEF-A612-87C8633C4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76D993-6DCB-4D23-A9C8-39B05F527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163D65-A6F8-40C0-A824-47F5E64EF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7A3F2F-7DD9-453C-B3CA-68FB90919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5E5D63-BEB0-4769-B67F-B5E209103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D47B8C-C648-4EBA-B398-C95E7BC9A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28B5DD-456F-4E22-8715-4C62E1F65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811A2B-B6C2-4AAC-B839-3DB4234EC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F37373-367B-4D45-AC80-0C7278448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147468-671C-4FE5-ADD8-15434F8EF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9EA0-0633-42B2-9145-D5FB0764E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DB7524-FDD2-4937-A603-EDF233EC3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C6CA20-1ACC-47A0-BEE2-10A980760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BBCF37-F139-49B3-BD5D-0AC73390A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104CCD-6C8F-4511-9F33-7779CB17F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3DA39D-73C6-497F-82E4-85BE8A6E7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EF52BF-B3CC-499A-9AC5-A3F3DE052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6B68F5-23E0-4708-AF86-0C53D771C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BA855A-7E72-4FB2-A072-419C6DEF4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EEB3F0-EF1C-4E66-89BF-50E5B2B75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DF93EB-CB17-4EEE-A3B3-0ADA4F95E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A301-5786-424C-ADD9-77FBC557A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EF4FC0-3DB6-4FAF-B8DD-782C0E378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D1A1C8-7242-4205-93FB-FAFF77BB7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172F3C-AE73-4B4B-A415-4FE1F16E6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19F699-1CAA-458D-9E25-5D7F58E72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CEF3F7-D6A8-451F-932B-790FE50AF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F78FF7-FA52-4908-AF82-6A095CA87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F1F139-0958-4337-9875-7830D1F49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D26892-1784-44F0-AFC0-3DAF3E19E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669A49-F0A9-4B64-A6ED-A79427AD5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E0D1EF-A836-40C1-8587-46D8D40A8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C9761-397C-4A90-92FB-277884C34A8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4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4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5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dt" idx="28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 type="ftr" idx="29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 type="sldNum" idx="30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A6D5E-4070-4232-BAC0-D296E66AD10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7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598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599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1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602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605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7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608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609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1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612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613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5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616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8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619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1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622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3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4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625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6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7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628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9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0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631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2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3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634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5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6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637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9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640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2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643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4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5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646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8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649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0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1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652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3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4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655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6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7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58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9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0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61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2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3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64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5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6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667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8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9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670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1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2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673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4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75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77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678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9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0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681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2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3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684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5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6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687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8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9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690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1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2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693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4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5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696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7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8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699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0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1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702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3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4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705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6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7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708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9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10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284DD-7DA4-45AB-BFE9-770C21FD5E4A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3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774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775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778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779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780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1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2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783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784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5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6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787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8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9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790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1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2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793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4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5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796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7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8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799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0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1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802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3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4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805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6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7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808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9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0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811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2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3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814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5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6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817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8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9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820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1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2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823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4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5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826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7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8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829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0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31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832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3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34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835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6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37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838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9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40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841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2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43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844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5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46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7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48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849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0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51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852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3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54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855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6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57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858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9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60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861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2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63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864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5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66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867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8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69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870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1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72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873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4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75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876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7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78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879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0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881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882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883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4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5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6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7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8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9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90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1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892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268D0-35A5-43A1-A3BE-D5A195178C1D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3D3C9-63EE-47A6-A02C-89503D2BDBE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72FF4-6CA6-4796-87CE-7E7C82F3ACA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8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3FB38-6CA6-4C19-931F-DF8C21DEFAC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231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2044A-429B-4229-9E59-7E7CE14EE8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02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3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4" name="PlaceHolder 1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E3831-71BB-4586-AF45-543655E7F3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4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405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BE0E0-87E0-42F5-8258-999F33C7D6E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52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8" name="PlaceHolder 1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D40EF-E742-41B7-836F-5500EBC8C82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dt" idx="25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ftr" idx="26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 type="sldNum" idx="27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AA67A-0C3F-4C85-812F-987E8B3E47B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stellar"/>
              </a:rPr>
              <a:t>Аквариумнист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7" name="" descr=""/>
          <p:cNvPicPr/>
          <p:nvPr/>
        </p:nvPicPr>
        <p:blipFill>
          <a:blip r:embed="rId1"/>
          <a:stretch/>
        </p:blipFill>
        <p:spPr>
          <a:xfrm>
            <a:off x="2971800" y="3505320"/>
            <a:ext cx="34290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371600" y="1677600"/>
            <a:ext cx="6400800" cy="1219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Тема проекта: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1549080" y="3200040"/>
            <a:ext cx="603252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Аквариум в детском саду и его тайные сокровищ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Times New Roman"/>
              </a:rPr>
              <a:t>Дидактические цели проекта: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196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Формирование компетентности в области методики экологического образования, информат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Развитие самостоятельности, креатив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Развитие исследовательских умений и навыков работы в команде, словестно - логического мыш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Методические задачи проекта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900000" y="1982520"/>
            <a:ext cx="7196400" cy="32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Объяснить основные понятия: аквариум, сачок, сифон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оказать практические знания аквариум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ознакомить с растениями и обитателями аквариум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150920" y="333360"/>
            <a:ext cx="747720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Над проектом работали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182600" y="2189160"/>
            <a:ext cx="777240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Алексеева Инг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Герасимов Илья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Герасимова Мария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Кулик Алеся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Шарыгина Мария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емы индивидуальных проекто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чение и место аквариума в ДО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тения аквариума, как структурный компонент  биоцено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квариум- модель искуственно - созданной экосист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идовой состав обитателей аквариума в зависимости от возраста де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ика ознакомления дошкольников разных возрастных групп с обитателями аквари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6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В результате работы были оформлены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ук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зент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ki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транич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йт про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685800" y="97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5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5600" spc="-1" strike="noStrike">
                <a:solidFill>
                  <a:srgbClr val="ffcc00"/>
                </a:solidFill>
                <a:latin typeface="Arial Black"/>
              </a:rPr>
              <a:t>Спасибо за внимание!</a:t>
            </a:r>
            <a:endParaRPr b="0" lang="en-US" sz="5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6T14:43:52Z</dcterms:created>
  <dc:creator>Инга</dc:creator>
  <dc:description/>
  <dc:language>en-US</dc:language>
  <cp:lastModifiedBy>Инга</cp:lastModifiedBy>
  <dcterms:modified xsi:type="dcterms:W3CDTF">2010-06-06T15:45:24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